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2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45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91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537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7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91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927000" y="4775040"/>
            <a:ext cx="5626080" cy="228600"/>
            <a:chOff x="927000" y="4775040"/>
            <a:chExt cx="5626080" cy="228600"/>
          </a:xfrm>
        </p:grpSpPr>
        <p:sp>
          <p:nvSpPr>
            <p:cNvPr id="134" name="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32448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92700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76" name="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455560" y="5537160"/>
            <a:ext cx="1104840" cy="179280"/>
            <a:chOff x="11455560" y="5537160"/>
            <a:chExt cx="1104840" cy="179280"/>
          </a:xfrm>
        </p:grpSpPr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123699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1206504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1176048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114555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457200" y="5537160"/>
            <a:ext cx="1104840" cy="179280"/>
            <a:chOff x="457200" y="5537160"/>
            <a:chExt cx="1104840" cy="179280"/>
          </a:xfrm>
        </p:grpSpPr>
        <p:pic>
          <p:nvPicPr>
            <p:cNvPr id="184" name="" descr=""/>
            <p:cNvPicPr/>
            <p:nvPr/>
          </p:nvPicPr>
          <p:blipFill>
            <a:blip r:embed="rId7"/>
            <a:stretch/>
          </p:blipFill>
          <p:spPr>
            <a:xfrm>
              <a:off x="13716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8"/>
            <a:stretch/>
          </p:blipFill>
          <p:spPr>
            <a:xfrm>
              <a:off x="106668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9"/>
            <a:stretch/>
          </p:blipFill>
          <p:spPr>
            <a:xfrm>
              <a:off x="76212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0"/>
            <a:stretch/>
          </p:blipFill>
          <p:spPr>
            <a:xfrm>
              <a:off x="4572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89" name="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197" name="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55560" y="1917720"/>
            <a:ext cx="1104840" cy="179280"/>
            <a:chOff x="11455560" y="1917720"/>
            <a:chExt cx="1104840" cy="1792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123699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1206504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1176048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114555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457200" y="1917720"/>
            <a:ext cx="1104840" cy="179280"/>
            <a:chOff x="457200" y="1917720"/>
            <a:chExt cx="1104840" cy="17928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13716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106668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76212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4572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5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9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dcc"/>
                </a:solidFill>
                <a:latin typeface="Bodoni SvtyTwo ITC TT-Bold"/>
              </a:rPr>
              <a:t>Introduction</a:t>
            </a:r>
            <a:endParaRPr b="0" lang="en-US" sz="5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1282320"/>
            <a:ext cx="1170936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2712"/>
                </a:solidFill>
                <a:latin typeface="Bodoni SvtyTwo ITC TT-Book"/>
              </a:rPr>
              <a:t>got the name “Cradle of Civilization”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182600" indent="-22860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2712"/>
                </a:solidFill>
                <a:latin typeface="Bodoni SvtyTwo ITC TT-Book"/>
              </a:rPr>
              <a:t>Meso = between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182600" indent="-22860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2712"/>
                </a:solidFill>
                <a:latin typeface="Bodoni SvtyTwo ITC TT-Book"/>
              </a:rPr>
              <a:t>potamia = rivers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What rivers?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782640" indent="-285840">
              <a:lnSpc>
                <a:spcPct val="100000"/>
              </a:lnSpc>
              <a:spcBef>
                <a:spcPts val="3200"/>
              </a:spcBef>
              <a:buClr>
                <a:srgbClr val="ffcc00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ivilization developed between the Euphrates and the Tigris River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odoni SvtyTwo ITC TT-Book"/>
              </a:rPr>
              <a:t>Now present day Iraq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l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7640" y="545760"/>
            <a:ext cx="1170936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11709360" cy="585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321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647640" y="2057400"/>
            <a:ext cx="1170936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2712"/>
                </a:solidFill>
                <a:latin typeface="Bodoni SvtyTwo ITC TT-Book"/>
              </a:rPr>
              <a:t>Because of the flooding of the rivers the soil became very rich. 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odoni SvtyTwo ITC TT-Book"/>
              </a:rPr>
              <a:t>Earned the name “Fertile Crescent”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Mesopotamia served as the site for some of the world’s earliest settlements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44fe"/>
                </a:solidFill>
                <a:latin typeface="Bodoni SvtyTwo ITC TT-Bold"/>
              </a:rPr>
              <a:t>Why-The Fertile Crescen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7640" y="545760"/>
            <a:ext cx="1170936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3dcc"/>
                </a:solidFill>
                <a:latin typeface="Tahoma Bold"/>
                <a:ea typeface="Tahoma Bold"/>
              </a:rPr>
              <a:t>Environment Role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638784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/>
          </a:bodyPr>
          <a:p>
            <a:pPr marL="382680" indent="-343080">
              <a:lnSpc>
                <a:spcPct val="9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Rivers supplied basics for existence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782640" indent="-285840">
              <a:lnSpc>
                <a:spcPct val="90000"/>
              </a:lnSpc>
              <a:spcBef>
                <a:spcPts val="3200"/>
              </a:spcBef>
              <a:buClr>
                <a:srgbClr val="ffcc00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2712"/>
                </a:solidFill>
                <a:latin typeface="Bodoni SvtyTwo ITC TT-Book"/>
              </a:rPr>
              <a:t>food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782640" indent="-285840">
              <a:lnSpc>
                <a:spcPct val="90000"/>
              </a:lnSpc>
              <a:spcBef>
                <a:spcPts val="3200"/>
              </a:spcBef>
              <a:buClr>
                <a:srgbClr val="ffcc00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2712"/>
                </a:solidFill>
                <a:latin typeface="Bodoni SvtyTwo ITC TT-Book"/>
              </a:rPr>
              <a:t>Water-Sanitati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3dcc"/>
                </a:solidFill>
                <a:latin typeface="Bodoni SvtyTwo ITC TT-Bold"/>
              </a:rPr>
              <a:t>Farming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 fontScale="84000"/>
          </a:bodyPr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Bodoni SvtyTwo ITC TT-Book"/>
              </a:rPr>
              <a:t>This area was the</a:t>
            </a:r>
            <a:r>
              <a:rPr b="0" lang="en-US" sz="4200" spc="-1" strike="noStrike">
                <a:solidFill>
                  <a:srgbClr val="363636"/>
                </a:solidFill>
                <a:latin typeface="Bodoni SvtyTwo ITC TT-Book"/>
              </a:rPr>
              <a:t> </a:t>
            </a:r>
            <a:r>
              <a:rPr b="0" lang="en-US" sz="4200" spc="-1" strike="noStrike">
                <a:solidFill>
                  <a:srgbClr val="ff2712"/>
                </a:solidFill>
                <a:latin typeface="Bodoni SvtyTwo ITC TT-Book"/>
              </a:rPr>
              <a:t>first to practice irrigation.</a:t>
            </a: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457200" indent="0">
              <a:lnSpc>
                <a:spcPct val="8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63636"/>
                </a:solidFill>
                <a:latin typeface="Bodoni SvtyTwo ITC TT-Book"/>
              </a:rPr>
              <a:t>The snow in the northern mountains would melt causing unpredictable  floods, that could be helpful and dangerous. </a:t>
            </a:r>
            <a:endParaRPr b="0" lang="en-US" sz="42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2690640" y="4156200"/>
            <a:ext cx="793620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Farming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Began</a:t>
            </a:r>
            <a:r>
              <a:rPr b="0" lang="en-US" sz="34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in 5500 BC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Flat, swampy regi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2 rivers flooded during spring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Floods left a very fertile mud, this made the soil very rich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2d99"/>
                </a:solidFill>
                <a:latin typeface="Times New Roman"/>
                <a:ea typeface="Times New Roman"/>
              </a:rPr>
              <a:t>How to Control Water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development of basins, canals, leve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projects required</a:t>
            </a:r>
            <a:r>
              <a:rPr b="0" lang="en-US" sz="3400" spc="-1" strike="noStrike">
                <a:solidFill>
                  <a:srgbClr val="363636"/>
                </a:solidFill>
                <a:latin typeface="Times New Roman Bold"/>
                <a:ea typeface="Times New Roman Bold"/>
              </a:rPr>
              <a:t> organization!!!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complex government formed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8251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dcc"/>
                </a:solidFill>
                <a:latin typeface="Bodoni SvtyTwo ITC TT-Bold"/>
              </a:rPr>
              <a:t>Problems </a:t>
            </a:r>
            <a:endParaRPr b="0" lang="en-US" sz="56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115560" tIns="50760" bIns="50760" anchor="ctr">
            <a:normAutofit/>
          </a:bodyPr>
          <a:p>
            <a:pPr marL="382680" indent="-343080">
              <a:lnSpc>
                <a:spcPct val="9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odoni SvtyTwo ITC TT-Book"/>
              </a:rPr>
              <a:t>frequent floods, scorching heat, winds,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90000"/>
              </a:lnSpc>
              <a:spcBef>
                <a:spcPts val="3200"/>
              </a:spcBef>
              <a:buClr>
                <a:srgbClr val="00ccff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odoni SvtyTwo ITC TT-Book"/>
              </a:rPr>
              <a:t>Communication in isolated cities was difficul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-343080">
              <a:lnSpc>
                <a:spcPct val="90000"/>
              </a:lnSpc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Rivers dry up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826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